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55E-5706-412A-AE73-ABCA6B15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9E8-4D42-41E1-8BA3-439DFDBF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88ADA-37BB-41A7-ADDA-08E9009B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C653F-4DBC-485B-959C-DC83613A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1163A-C26B-4BE7-A0F3-21F69547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3203E-984B-4982-A374-27785A14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30068-CAA9-44B9-A86D-14AF40DA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A974B-3E2F-4157-AEA3-B2B192C8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6895A7-BCE9-44C2-B465-67F2646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EC995-F557-4119-8F7B-C721D013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A6E8C-884B-4FD1-8C7C-EFFBDD70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22FC0-C1F1-43D1-9B8E-7D37C20F2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7ED-B88D-4CDA-8D05-BD2198AA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069B7-B969-44E8-AC0B-64E5867D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F9275-5863-4D88-B908-2E974C55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37582-CFAB-46BC-A962-A5DE197C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A5D2B-F498-4698-80B7-026BBEE1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67F11-BCC3-42D2-81ED-5E3D56C4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6D475-CF0C-42AF-A09E-28506FAC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0BA22-D7E3-42B2-BA69-4297BA1F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E0BDD-7EBF-43EA-9723-06247B44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08B9A-4350-431F-93DB-CA5301DD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2FCDE-A83D-4AA5-AAC8-2CABBBCB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23E-E88B-4703-9FF0-88FF6F30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D26ED2-98D7-4A38-9D19-904EBADF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18864-1C22-4F83-AA4A-091CDC54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8F52C-4182-464B-9222-48AEA151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30018-A3DD-4D23-9EF1-6313CB1D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7078F-B54E-4534-8BFC-A8180299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62ED3-6FD0-43CC-B36B-BD077632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6BA92-94F2-45B5-89FC-C7386890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AE702-5142-420B-983F-717F6647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28424-3A1E-4822-B30F-109C826C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8C98F-3ABC-4F3E-AC9B-5C38C1D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D6F5-9798-44C3-847E-AEE63745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BF06D-22B9-4800-A769-58F26A27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9C353-291B-48E4-B6FF-8B556EA2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2874C-33B0-4ED0-AD38-59916DFE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D6D9A8-3F75-43EA-8723-03763102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3E62F-D466-40D5-8A4D-2667AC3A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2B34A1-6E16-47E3-AD8A-8DD3FDE6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2F5E3-AC34-4020-9403-991CBAB8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2B07EA-6828-4B87-99CB-732DDF08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097425-09C9-4B82-A095-3C4B77F8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754B95-9EEF-411F-A82D-019523A6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3DA8-5F3F-48BA-9867-BEEAE868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32EAA-748B-41BF-8639-53313BFA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E38ECB-5B79-4D1F-9374-E9D00BF8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F30BDF-BBD7-4BF5-BB47-C69CEF4A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26D7A-B525-460B-A669-456EB525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68AB3B-17D1-4EFF-95B5-B9AD2A81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004F1-143B-4B48-AE19-9C002BD2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83662-B5D5-4EBD-9457-18071269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65E84-2A89-4B1C-A446-DCF71134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8ADF6-B66D-4283-B373-8A148F2D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D9392-AC63-42AA-BC43-67D18472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D4BD-335F-4D4D-95A5-ECD997F1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C3018-A23D-48ED-864E-95664F85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54055-BBC8-47B4-AF27-0E6FD290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D45DE-0376-490D-B3B5-1CDA2BA6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737880-DC79-40A0-922C-E3CDC288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B77B6-4957-4414-8F87-9A04F6A7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E076C-2B6D-4BED-BF94-3F272CED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2469A-6BD2-48CF-B43B-4B792D1D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B819-D0F7-4B77-8655-13F1F4E7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F3ED-D305-48C0-A8C8-6CDF22C1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401A-2BCC-49C4-B938-D1FCCA82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AEE5-EFC5-4D77-9B36-30C8A7CC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77B-C370-4F18-808B-AAAC46C1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1AEE-B1A1-4DF8-8624-BA02F267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9CC9-BD5A-471A-9972-C6C6978C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5AE6-CBDA-416D-8CA8-F292B953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D2A7-F1A2-4FF6-AF1E-900386C3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4CEF-A645-4487-8841-B59F1396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B00F-2AFF-4B3F-90B0-A1605B32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DBEAB-818D-48C4-BC98-4F8A5E9F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EEF68-D177-4458-8D32-019130DE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BD758-0311-43C2-BC6E-BE101B91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25DAD-7320-4E4B-917A-EBCE0BA0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4CA-9CB1-4FCF-B8BF-DAFECAB3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CD9BF-4515-429C-9316-B35AF1EF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A1A83-B469-42D5-9F46-A06B9968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1CBC-B2F9-48C8-A846-46433A03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48D62-6F94-4267-90B8-AD7FC08F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1210E-04DC-42A9-9CAF-9680D031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6038-4449-4025-AD97-86273358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CBBF-6C91-4337-91AA-9F83B0CF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74A4-70E7-4291-B748-066B13BE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387BF-2C84-424C-ADAB-5EAE6F96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EC450-21EE-4F08-BD7C-71978B13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C4B-2CF3-4D4D-8D96-14E9FBEE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7A320-B2EB-48AC-87E9-3D16E7AC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3FC14-6F60-412D-87CF-F123734B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3E83A-3B0D-462C-AFD4-4386230C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E7D01-2EA8-4424-A19C-D78D2775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0E031-1ABE-4E8C-96FC-2E20D1F8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28D77-EB87-4390-9897-04F6D8D8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CE0AD-E50B-4780-8E42-AC6B926A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CF82F-3EC0-46B7-A1C9-EC949436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96AC0-B43C-4956-98DD-99030225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7C369-62CC-4C4D-B386-30C5C7EE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5C1C-107B-47F0-9523-0F345715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B9CCD-698F-4987-91BA-710452D6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F2022-9921-496A-9EDC-5D5D52F4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29C30-E1E7-4CE3-A761-70A82BDF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90ECA-BE9F-43E1-A1FB-41E2CFAC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24176-7A65-4B6C-A5F3-C4A7C850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E15C0-DDD3-4DBC-8188-7985B1F6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28F01-CFA4-4D9B-BD40-83BD3196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84A56-E0D8-47EE-A106-6832424E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3B751-5482-4C6A-AF50-406131E1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6EF2B-280A-4D8D-976C-A464E3DF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714-B7AE-4966-ABBF-61005F3B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7D290-4129-4078-BC16-8FEF29B1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F5C41-EB72-49C4-94CE-05C738BF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0B656-858B-4D33-BB21-64B12773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D3DED-B406-435F-BF80-FA8701A4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5DABF-0B27-49D5-BB6E-11DDE0AE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13273-BB04-4B08-826C-53CF17DC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236FC-4615-433F-B108-9288C011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B2733-8B08-4692-9209-1C06F9FD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17D84-59AA-4F32-AAEA-A2AA94CA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433B8-B84E-479A-91FD-169FA142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D9F-12E9-4FD1-8C48-23593DAE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08398-743E-4609-8122-F59935C6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4054-C347-4E82-B2C8-9F6D11AF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432B5-1735-4118-8BE5-79B2487D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BF750-8958-413B-8C4B-72A27AA9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AFD1D-8871-4A25-B684-350A8076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6DA83-F8E0-44F2-8ADF-2421A41C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91DED-3358-4DC7-9365-31AD88B0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B1C2A-5A5A-44C0-BE22-E2FC6256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27753-8455-41DF-BC78-35F3C69E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B93DA-2D03-496E-A3E0-5AF193F2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84E-1405-4A37-A264-E3DE49D1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FEBE2-15BA-456A-A6CA-8578E795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D93A2-9D0A-4C97-9AED-C11B4868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74AD9-7FD7-4942-8ED3-3BDD88B8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B49AF-198C-42A4-B7BC-5257A617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DD316-EFBB-4F59-81F0-4837C38E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2EF8-15CA-4BEF-8DAE-3C3A2DD2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3211C-076D-48F1-80FD-6472F0F4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79989-F1E6-4623-A9AF-4F0209DB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8614E-BE91-4328-A6F7-12B9325F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CC021-23BA-4112-A9B3-63812625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141D-7B02-409E-9554-D949D0DD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CD53A-2C2D-4086-B044-9826AA33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DE502-9440-405B-AAD5-7727DC6E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9812F-0E2D-45D3-A9FA-0B335A5B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E25C2-41FF-4236-AFEE-4924AB9B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424D6-3964-423E-8A43-57B324BE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46678-55E6-4C8B-B37C-FB723DA2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58D30-7461-46FD-A138-FD19F9B5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77B3C-CF98-4CA1-A947-5240FD14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5AD5A-E355-4E5B-8B9C-04326134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2E544-EEDA-4490-9694-51CC1074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DD3F-9328-49D8-B29C-56A98962316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4064-78D4-49E2-A2C8-1DD3A8417FC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F01E-0482-42DE-852C-6F5CE0E1898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F5DC-7277-4FE8-A829-ACF4E604541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2D04-70AF-4A2A-8AC2-F6FCB67A2F8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6FC2-C758-41CF-B1A4-919F27F256E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183E-7F10-4EAC-AF4F-3D06689C157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C00D-0236-4DE0-ADB8-B01D07690A7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59B5-DDC8-49A8-B56C-E42D81A1116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A4BE-C0D6-44CA-B651-7BCABA0942E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BCE1-DA6C-43B1-9DE8-C57054F44C4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3156-618B-449D-8C46-2D6197388AD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5DE0-F282-4B6D-8719-849361C9994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Заголовок 1"/>
          <p:cNvSpPr/>
          <p:nvPr/>
        </p:nvSpPr>
        <p:spPr>
          <a:xfrm>
            <a:off x="179280" y="189000"/>
            <a:ext cx="8785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Georgia"/>
              </a:rPr>
              <a:t>Почвы. Охрана почв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http://purichvalera.com/wp-content/uploads/2011/09/obrabotka-pochvyi.jpg"/>
          <p:cNvPicPr/>
          <p:nvPr/>
        </p:nvPicPr>
        <p:blipFill>
          <a:blip r:embed="rId1"/>
          <a:stretch/>
        </p:blipFill>
        <p:spPr>
          <a:xfrm>
            <a:off x="1042920" y="1341360"/>
            <a:ext cx="6842160" cy="532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Орудия труда, которыми наши предки обрабатывали почву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5" name="Picture 4" descr="C:\Documents and Settings\Катюська\Мои документы\Мои рисунки\2011-12-05, окр  мир\окр  мир 002.jpg"/>
          <p:cNvPicPr/>
          <p:nvPr/>
        </p:nvPicPr>
        <p:blipFill>
          <a:blip r:embed="rId1"/>
          <a:stretch/>
        </p:blipFill>
        <p:spPr>
          <a:xfrm>
            <a:off x="4572000" y="3645000"/>
            <a:ext cx="4313160" cy="22986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76" name="TextBox 11"/>
          <p:cNvSpPr/>
          <p:nvPr/>
        </p:nvSpPr>
        <p:spPr>
          <a:xfrm>
            <a:off x="6013800" y="5805360"/>
            <a:ext cx="15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ы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C:\Documents and Settings\Катюська\Мои документы\Мои рисунки\2011-12-05, окр  мир\окр  мир 002.jpg"/>
          <p:cNvPicPr/>
          <p:nvPr/>
        </p:nvPicPr>
        <p:blipFill>
          <a:blip r:embed="rId2"/>
          <a:stretch/>
        </p:blipFill>
        <p:spPr>
          <a:xfrm>
            <a:off x="250920" y="1628640"/>
            <a:ext cx="4511520" cy="25210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78" name="TextBox 13"/>
          <p:cNvSpPr/>
          <p:nvPr/>
        </p:nvSpPr>
        <p:spPr>
          <a:xfrm>
            <a:off x="531720" y="4076640"/>
            <a:ext cx="34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на-суков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дия труда, которыми наши предки обрабатывали почву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0" name="Picture 2" descr="C:\Documents and Settings\Катюська\Мои документы\Мои рисунки\2011-12-05, окр  мир\окр  мир 003.jpg"/>
          <p:cNvPicPr/>
          <p:nvPr/>
        </p:nvPicPr>
        <p:blipFill>
          <a:blip r:embed="rId1"/>
          <a:stretch/>
        </p:blipFill>
        <p:spPr>
          <a:xfrm>
            <a:off x="3419640" y="1773360"/>
            <a:ext cx="5589360" cy="3384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81" name="TextBox 7"/>
          <p:cNvSpPr/>
          <p:nvPr/>
        </p:nvSpPr>
        <p:spPr>
          <a:xfrm>
            <a:off x="5718240" y="515772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2" descr="C:\Documents and Settings\Катюська\Мои документы\Мои рисунки\2011-12-05, окр  мир\окр  мир 003.jpg"/>
          <p:cNvPicPr/>
          <p:nvPr/>
        </p:nvPicPr>
        <p:blipFill>
          <a:blip r:embed="rId2"/>
          <a:stretch/>
        </p:blipFill>
        <p:spPr>
          <a:xfrm>
            <a:off x="324000" y="1628640"/>
            <a:ext cx="2922480" cy="4176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83" name="TextBox 9"/>
          <p:cNvSpPr/>
          <p:nvPr/>
        </p:nvSpPr>
        <p:spPr>
          <a:xfrm>
            <a:off x="900000" y="58053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ожет разрушать почву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TextBox 5"/>
          <p:cNvSpPr/>
          <p:nvPr/>
        </p:nvSpPr>
        <p:spPr>
          <a:xfrm>
            <a:off x="324000" y="126828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вневые дожди губят будущий урожай, смывают плодородный слой почвы. Сильные ветры выдувают мельчайшие частички почвы. Суховеи иссушаю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6"/>
          <p:cNvSpPr/>
          <p:nvPr/>
        </p:nvSpPr>
        <p:spPr>
          <a:xfrm>
            <a:off x="1713600" y="692280"/>
            <a:ext cx="602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природны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2" descr="http://priroda-yavlenie.ru/images/x_8d4396ce.jpg"/>
          <p:cNvPicPr/>
          <p:nvPr/>
        </p:nvPicPr>
        <p:blipFill>
          <a:blip r:embed="rId1"/>
          <a:srcRect l="0" t="0" r="72" b="0"/>
          <a:stretch/>
        </p:blipFill>
        <p:spPr>
          <a:xfrm>
            <a:off x="1835280" y="3284640"/>
            <a:ext cx="56530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6"/>
          <p:cNvSpPr/>
          <p:nvPr/>
        </p:nvSpPr>
        <p:spPr>
          <a:xfrm>
            <a:off x="1855440" y="189000"/>
            <a:ext cx="557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7"/>
          <p:cNvSpPr/>
          <p:nvPr/>
        </p:nvSpPr>
        <p:spPr>
          <a:xfrm>
            <a:off x="179280" y="90792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орение промышленными и бытовыми от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http://gkh.com.ua/upload/iblock/d85/szpac.jpg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C:\Documents and Settings\Катюська\Мои документы\Мои рисунки\2011-12-05, окр  мир\окр  мир 009.jpg"/>
          <p:cNvPicPr/>
          <p:nvPr/>
        </p:nvPicPr>
        <p:blipFill>
          <a:blip r:embed="rId1"/>
          <a:stretch/>
        </p:blipFill>
        <p:spPr>
          <a:xfrm>
            <a:off x="971640" y="0"/>
            <a:ext cx="7121520" cy="42926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92" name="TextBox 7"/>
          <p:cNvSpPr/>
          <p:nvPr/>
        </p:nvSpPr>
        <p:spPr>
          <a:xfrm>
            <a:off x="0" y="43038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ая обработка почвы, неграмотный уход за растениями,  использование больш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минеральных веществ (удобрени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химикатов для борьбы с вредителями и сорня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Опыт наших пред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TextBox 3"/>
          <p:cNvSpPr/>
          <p:nvPr/>
        </p:nvSpPr>
        <p:spPr>
          <a:xfrm>
            <a:off x="179280" y="1341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сить мусор, плюнуть на землю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4"/>
          <p:cNvSpPr/>
          <p:nvPr/>
        </p:nvSpPr>
        <p:spPr>
          <a:xfrm>
            <a:off x="1068480" y="198900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вы делали на ровной поверх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5"/>
          <p:cNvSpPr/>
          <p:nvPr/>
        </p:nvSpPr>
        <p:spPr>
          <a:xfrm flipH="1">
            <a:off x="179280" y="2637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ы холмов – для  многолетних т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6"/>
          <p:cNvSpPr/>
          <p:nvPr/>
        </p:nvSpPr>
        <p:spPr>
          <a:xfrm>
            <a:off x="971640" y="3284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ые отходы,  растительные ост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ывали в компостные к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8"/>
          <p:cNvSpPr/>
          <p:nvPr/>
        </p:nvSpPr>
        <p:spPr>
          <a:xfrm>
            <a:off x="385560" y="4365720"/>
            <a:ext cx="837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ли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ли свойства не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й для борьбы с вре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Опыт наших пред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TextBox 4"/>
          <p:cNvSpPr/>
          <p:nvPr/>
        </p:nvSpPr>
        <p:spPr>
          <a:xfrm>
            <a:off x="347040" y="1484280"/>
            <a:ext cx="72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лись приметить «гнилые угл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5"/>
          <p:cNvSpPr/>
          <p:nvPr/>
        </p:nvSpPr>
        <p:spPr>
          <a:xfrm>
            <a:off x="404640" y="2133720"/>
            <a:ext cx="873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щиты от сильных ветров сажали дере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6"/>
          <p:cNvSpPr/>
          <p:nvPr/>
        </p:nvSpPr>
        <p:spPr>
          <a:xfrm>
            <a:off x="272880" y="3213000"/>
            <a:ext cx="782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для задержания снежного пок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ли щи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8"/>
          <p:cNvSpPr/>
          <p:nvPr/>
        </p:nvSpPr>
        <p:spPr>
          <a:xfrm>
            <a:off x="702360" y="4365720"/>
            <a:ext cx="59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или на поля золу и нав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6" name="Picture 2" descr="https://ds04.infourok.ru/uploads/ex/03ba/00158789-34d7f232/hello_html_796e18c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C:\Documents and Settings\Катюська\Мои документы\Мои рисунки\2011-12-05, окр  мир\окр  мир 004.jpg"/>
          <p:cNvPicPr/>
          <p:nvPr/>
        </p:nvPicPr>
        <p:blipFill>
          <a:blip r:embed="rId1"/>
          <a:stretch/>
        </p:blipFill>
        <p:spPr>
          <a:xfrm>
            <a:off x="971640" y="1197000"/>
            <a:ext cx="6913440" cy="5481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59" name="TextBox 5"/>
          <p:cNvSpPr/>
          <p:nvPr/>
        </p:nvSpPr>
        <p:spPr>
          <a:xfrm>
            <a:off x="243000" y="189000"/>
            <a:ext cx="85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, что вы знае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битателях почв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истая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1" name="Picture 6" descr="C:\Users\79995\Desktop\big-57cac599ff9367028602ad13-57e2abe09877f-1bu5av0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62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16360" y="260280"/>
            <a:ext cx="35287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есчаная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3" name="Picture 7" descr="C:\Users\79995\Desktop\osobenosti-pochvu-pesok.jpg"/>
          <p:cNvPicPr/>
          <p:nvPr/>
        </p:nvPicPr>
        <p:blipFill>
          <a:blip r:embed="rId1"/>
          <a:stretch/>
        </p:blipFill>
        <p:spPr>
          <a:xfrm>
            <a:off x="-181080" y="1268280"/>
            <a:ext cx="9525240" cy="4762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73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Суха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5" name="Picture 7" descr="C:\Users\79995\Desktop\1582092037_18-p-treshchini-v-pustine-29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5040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Глиниста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Picture 7" descr="C:\Users\79995\Desktop\kachestvo-pochvy-na-dache3-1.jpg"/>
          <p:cNvPicPr/>
          <p:nvPr/>
        </p:nvPicPr>
        <p:blipFill>
          <a:blip r:embed="rId1"/>
          <a:stretch/>
        </p:blipFill>
        <p:spPr>
          <a:xfrm>
            <a:off x="900000" y="1160640"/>
            <a:ext cx="7596360" cy="569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979640" y="0"/>
            <a:ext cx="50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ернозё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5" descr="C:\Users\79995\Desktop\i.jpg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1" name="Picture 6" descr="Profili pothv"/>
          <p:cNvPicPr/>
          <p:nvPr/>
        </p:nvPicPr>
        <p:blipFill>
          <a:blip r:embed="rId1"/>
          <a:stretch/>
        </p:blipFill>
        <p:spPr>
          <a:xfrm>
            <a:off x="0" y="-325440"/>
            <a:ext cx="9144000" cy="718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6" descr="120103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2:29:18Z</dcterms:created>
  <dc:creator>DNA7 X86</dc:creator>
  <dc:description/>
  <dc:language>en-US</dc:language>
  <cp:lastModifiedBy>79995678691</cp:lastModifiedBy>
  <dcterms:modified xsi:type="dcterms:W3CDTF">2020-12-20T10:16:30Z</dcterms:modified>
  <cp:revision>1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210000000000010243100207f6000400038000</vt:lpwstr>
  </property>
</Properties>
</file>